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FFB-8B4A-4A57-A09B-60DDD516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4F82-0E8A-4F2E-A5E2-5797C6AF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CDC-5644-4D26-98FD-11C1F42D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32A-259F-46E8-9C97-49E5EBD2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7773-D041-493E-AAD9-8329E499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AC6-E3DC-48A6-9577-73FA1F58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027-796E-40CD-960C-4C5520DD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806-34A2-4C04-9FD0-9C55DFC6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CB6F-48C5-4308-8B16-1347F333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563-E731-4AF0-8033-359C4B69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8B8-A9F2-4D9C-B3CD-CFF1E9D1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E56-184B-4478-9C52-5E9C60AA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14DB-FD3B-4115-8E31-E26538F77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.png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.png"/><Relationship Id="rId3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6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6.png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6.png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6.png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6.png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6.png"/><Relationship Id="rId4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3809880" cy="13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85800" y="1371600"/>
          <a:ext cx="3657600" cy="12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37160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0" y="1447920"/>
          <a:ext cx="46980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447920"/>
                    <a:ext cx="469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962520" y="2506680"/>
          <a:ext cx="509400" cy="82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2520" y="2506680"/>
                    <a:ext cx="50940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672080" y="0"/>
          <a:ext cx="3809880" cy="136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72080" y="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357880" y="1371600"/>
          <a:ext cx="3657600" cy="128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57880" y="137160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672080" y="1447920"/>
          <a:ext cx="46980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72080" y="1447920"/>
                    <a:ext cx="469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8634240" y="2506680"/>
          <a:ext cx="509760" cy="826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634240" y="2506680"/>
                    <a:ext cx="50976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0" y="3505320"/>
          <a:ext cx="3809880" cy="1365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0" y="350532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85800" y="4876920"/>
          <a:ext cx="3657600" cy="1288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5800" y="4876920"/>
                    <a:ext cx="365760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0" y="4952880"/>
          <a:ext cx="469800" cy="838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4952880"/>
                    <a:ext cx="469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962520" y="6012000"/>
          <a:ext cx="509400" cy="826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962520" y="6012000"/>
                    <a:ext cx="50940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672080" y="3505320"/>
          <a:ext cx="3809880" cy="1365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72080" y="350532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357880" y="4876920"/>
          <a:ext cx="3657600" cy="1288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57880" y="4876920"/>
                    <a:ext cx="365760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672080" y="4952880"/>
          <a:ext cx="469800" cy="838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672080" y="4952880"/>
                    <a:ext cx="469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8634240" y="6012000"/>
          <a:ext cx="509760" cy="8269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8634240" y="6012000"/>
                    <a:ext cx="50976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0"/>
          <a:ext cx="3809880" cy="13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685800" y="1371600"/>
          <a:ext cx="3657600" cy="12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37160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72080" y="0"/>
          <a:ext cx="3809880" cy="136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72080" y="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357880" y="1371600"/>
          <a:ext cx="3657600" cy="12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57880" y="137160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0" y="3505320"/>
          <a:ext cx="3809880" cy="136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350532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5800" y="4876920"/>
          <a:ext cx="3657600" cy="1288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" y="4876920"/>
                    <a:ext cx="365760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672080" y="3505320"/>
          <a:ext cx="3809880" cy="1365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72080" y="350532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57880" y="4876920"/>
          <a:ext cx="3657600" cy="1288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57880" y="4876920"/>
                    <a:ext cx="365760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0" y="1447920"/>
          <a:ext cx="812880" cy="637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0" y="1447920"/>
                    <a:ext cx="81288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657600" y="2743200"/>
          <a:ext cx="812880" cy="63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57600" y="2743200"/>
                    <a:ext cx="812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648320" y="1419120"/>
          <a:ext cx="812520" cy="63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48320" y="1419120"/>
                    <a:ext cx="8125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8331120" y="2743200"/>
          <a:ext cx="812880" cy="63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331120" y="2743200"/>
                    <a:ext cx="812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648320" y="4952880"/>
          <a:ext cx="812520" cy="638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48320" y="4952880"/>
                    <a:ext cx="8125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733920" y="6219720"/>
          <a:ext cx="812520" cy="638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733920" y="6219720"/>
                    <a:ext cx="8125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0" y="4876920"/>
          <a:ext cx="812880" cy="637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0" y="4876920"/>
                    <a:ext cx="81288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8331120" y="6219720"/>
          <a:ext cx="812880" cy="63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8331120" y="6219720"/>
                    <a:ext cx="812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8413920" y="6095880"/>
          <a:ext cx="7300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920" y="6095880"/>
                    <a:ext cx="7300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724280" y="4952880"/>
          <a:ext cx="73044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4952880"/>
                    <a:ext cx="730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648320" y="3435480"/>
          <a:ext cx="3809880" cy="136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43548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4807080"/>
          <a:ext cx="3657600" cy="128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4807080"/>
                    <a:ext cx="365760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765600" y="2660760"/>
          <a:ext cx="73008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65600" y="2660760"/>
                    <a:ext cx="7300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76320" y="1517760"/>
          <a:ext cx="730080" cy="76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320" y="1517760"/>
                    <a:ext cx="7300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0" y="0"/>
          <a:ext cx="3809880" cy="1365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838080" y="1371600"/>
          <a:ext cx="3657600" cy="128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38080" y="137160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8413920" y="2660760"/>
          <a:ext cx="730080" cy="761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413920" y="2660760"/>
                    <a:ext cx="7300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724280" y="1517760"/>
          <a:ext cx="730440" cy="761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724280" y="1517760"/>
                    <a:ext cx="7304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648320" y="0"/>
          <a:ext cx="3809880" cy="1365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48320" y="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486400" y="1371600"/>
          <a:ext cx="3657600" cy="1289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86400" y="137160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765600" y="6095880"/>
          <a:ext cx="730080" cy="762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65600" y="6095880"/>
                    <a:ext cx="7300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76320" y="4952880"/>
          <a:ext cx="730080" cy="762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6320" y="4952880"/>
                    <a:ext cx="7300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0" y="3511440"/>
          <a:ext cx="3809880" cy="13654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0" y="3511440"/>
                    <a:ext cx="380988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838080" y="4807080"/>
          <a:ext cx="3657600" cy="12888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838080" y="4807080"/>
                    <a:ext cx="365760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648320" y="3511440"/>
          <a:ext cx="380988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511440"/>
                    <a:ext cx="380988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486400" y="4807080"/>
          <a:ext cx="3657600" cy="12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807080"/>
                    <a:ext cx="365760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1523880"/>
          <a:ext cx="51120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52388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0" y="0"/>
          <a:ext cx="3809880" cy="1365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838080" y="1371600"/>
          <a:ext cx="3657600" cy="128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137160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648320" y="0"/>
          <a:ext cx="3809880" cy="1365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48320" y="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486400" y="1371600"/>
          <a:ext cx="3657600" cy="128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86400" y="137160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79520" y="1523880"/>
          <a:ext cx="51120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9520" y="152388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0" y="3511440"/>
          <a:ext cx="3809880" cy="1365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0" y="3511440"/>
                    <a:ext cx="380988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838080" y="4807080"/>
          <a:ext cx="3657600" cy="1288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4807080"/>
                    <a:ext cx="365760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483000" y="2743200"/>
          <a:ext cx="511200" cy="53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83000" y="274320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962520" y="2743200"/>
          <a:ext cx="51120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962520" y="274320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670280" y="1447920"/>
          <a:ext cx="511200" cy="533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70280" y="1447920"/>
                    <a:ext cx="5112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149800" y="1447920"/>
          <a:ext cx="511200" cy="533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49800" y="1447920"/>
                    <a:ext cx="5112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8153280" y="2666880"/>
          <a:ext cx="511200" cy="533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8153280" y="266688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8632800" y="2666880"/>
          <a:ext cx="511200" cy="533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8632800" y="266688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0" y="4952880"/>
          <a:ext cx="511200" cy="533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0" y="495288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79520" y="4952880"/>
          <a:ext cx="511200" cy="5335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79520" y="495288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483000" y="6172200"/>
          <a:ext cx="511200" cy="533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483000" y="617220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962520" y="6172200"/>
          <a:ext cx="511200" cy="533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962520" y="617220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594320" y="4952880"/>
          <a:ext cx="511200" cy="5335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594320" y="495288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5073480" y="4952880"/>
          <a:ext cx="511200" cy="53352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5073480" y="495288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8077320" y="6172200"/>
          <a:ext cx="511200" cy="5335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8077320" y="617220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8556480" y="6172200"/>
          <a:ext cx="511200" cy="5335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8556480" y="617220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7:53:10Z</dcterms:created>
  <dc:creator>Dina Winterton</dc:creator>
  <dc:description/>
  <dc:language>en-US</dc:language>
  <cp:lastModifiedBy>Dina Winterton</cp:lastModifiedBy>
  <dcterms:modified xsi:type="dcterms:W3CDTF">2009-04-13T19:14:56Z</dcterms:modified>
  <cp:revision>5</cp:revision>
  <dc:subject/>
  <dc:title>Slide 1</dc:title>
</cp:coreProperties>
</file>